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1083-316A-4912-AC83-45803F102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1AF8-186F-4D17-9DBA-5EAEEC0D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3281-BB5D-4A5B-8292-BC463CD2F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1BFF-0F96-41F3-9E2D-FAD88D296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8133-6448-4EBC-8BC2-ACBB35CF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ED90-CA5E-4DAD-8735-0589E276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7CED-F157-4F97-B032-4B47B546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28C6-0627-42E5-B675-13C83772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80B4-0450-4FE6-A3DF-A8A823C4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6FE0-E71D-4C4F-9479-E0C08303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709E-D99C-46E6-A00A-469069CD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4573-97D0-4D5B-99BB-DEE74F27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A314-263C-48C1-B34F-2421708B08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55Z</dcterms:modified>
  <cp:revision>51</cp:revision>
  <dc:subject/>
  <dc:title>Hazards</dc:title>
</cp:coreProperties>
</file>